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46C3-1402-4EB1-821B-ACA1F6FF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F9E-2B96-42BE-9266-DB0D4ED7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D6B-BDE2-449B-B016-0296FB94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0E5-9188-4477-94C4-C643F216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787-A5DC-47D7-ABD2-1C3D2C88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59CD-0599-4590-9ED8-2F1E467E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7CD-7993-4C72-AD48-6D87FF1B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791-3580-4B90-BB23-9713AF11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1D37-9FED-44D6-A808-34C187C8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6C5B-9131-4D04-B379-9A93B740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552-ABE5-4163-8287-A03B190D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551-627D-45B7-83E7-05730D54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C30A-7E73-4E2D-B8FE-960F30401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24146" t="-19190" r="-24146" b="-19190"/>
          <a:stretch/>
        </p:blipFill>
        <p:spPr>
          <a:xfrm>
            <a:off x="-2362320" y="-1754280"/>
            <a:ext cx="11658600" cy="12652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76560" y="3903840"/>
            <a:ext cx="276120" cy="1658880"/>
          </a:xfrm>
          <a:custGeom>
            <a:avLst/>
            <a:gdLst/>
            <a:ahLst/>
            <a:rect l="l" t="t" r="r" b="b"/>
            <a:pathLst>
              <a:path w="174" h="1045">
                <a:moveTo>
                  <a:pt x="174" y="1045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4419720"/>
            <a:ext cx="158760" cy="1119240"/>
          </a:xfrm>
          <a:custGeom>
            <a:avLst/>
            <a:gdLst/>
            <a:ahLst/>
            <a:rect l="l" t="t" r="r" b="b"/>
            <a:pathLst>
              <a:path w="111" h="620">
                <a:moveTo>
                  <a:pt x="111" y="620"/>
                </a:moveTo>
                <a:lnTo>
                  <a:pt x="0" y="0"/>
                </a:lnTo>
              </a:path>
            </a:pathLst>
          </a:custGeom>
          <a:noFill/>
          <a:ln w="6660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6248520"/>
            <a:ext cx="4114800" cy="703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Red Lines Depict the Route Back to Restricted Air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9640" y="2514600"/>
            <a:ext cx="1909080" cy="642600"/>
          </a:xfrm>
          <a:prstGeom prst="rect">
            <a:avLst/>
          </a:prstGeom>
          <a:solidFill>
            <a:srgbClr val="ffff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-4808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63920" y="3962520"/>
            <a:ext cx="20354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-4806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260400">
            <a:off x="2710800" y="5365800"/>
            <a:ext cx="882360" cy="360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4:41:43Z</dcterms:created>
  <dc:creator>HP Authorized Customer</dc:creator>
  <dc:description/>
  <dc:language>en-US</dc:language>
  <cp:lastModifiedBy>Beed</cp:lastModifiedBy>
  <dcterms:modified xsi:type="dcterms:W3CDTF">2006-03-08T02:30:53Z</dcterms:modified>
  <cp:revision>7</cp:revision>
  <dc:subject/>
  <dc:title>Slide 1</dc:title>
</cp:coreProperties>
</file>